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98E0-D41B-4C8F-B181-E463E34D9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FCB4-F202-4660-99BC-53BF6DA0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514E-2FF8-4516-A655-0234B8A4B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9A32-8AA0-480A-899C-FFCFF13F6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F9AF-336B-4E5A-B2CA-B71DA8EA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5649-7B0F-41F5-A6EB-9A4DC89F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812E-6836-491C-BE42-01D24186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8C31-46FE-456F-ABA8-3A9C47D6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228C-37F2-437F-A591-03848B0C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75ED-7955-4419-B3E7-7C8D40A7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3DF8-4A72-4C84-9076-F9AC41E1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F5CB-77F4-4BC2-A81D-81F2E571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A44F-C918-4C15-927A-17E8518C9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plantgdb.org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</a:rPr>
              <a:t>PlantGDB: Annotation Principles &amp; Proced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4422" r="1063" b="0"/>
          <a:stretch/>
        </p:blipFill>
        <p:spPr>
          <a:xfrm>
            <a:off x="1219320" y="1295280"/>
            <a:ext cx="670536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198" t="3367" r="1355" b="0"/>
          <a:stretch/>
        </p:blipFill>
        <p:spPr>
          <a:xfrm>
            <a:off x="228600" y="76320"/>
            <a:ext cx="8643960" cy="67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25733" t="27159" r="27794" b="25191"/>
          <a:stretch/>
        </p:blipFill>
        <p:spPr>
          <a:xfrm>
            <a:off x="457200" y="33480"/>
            <a:ext cx="8229600" cy="67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Web-Based Gene Structure Annota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a local region using all available EST and protein mapp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rive a gene structure (expert)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nel contributed annotation through a curation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 confirmed annotation to the WW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0" t="4422" r="1042" b="10934"/>
          <a:stretch/>
        </p:blipFill>
        <p:spPr>
          <a:xfrm>
            <a:off x="76320" y="68400"/>
            <a:ext cx="8991360" cy="61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0" t="4422" r="1063" b="0"/>
          <a:stretch/>
        </p:blipFill>
        <p:spPr>
          <a:xfrm>
            <a:off x="228600" y="76320"/>
            <a:ext cx="8610480" cy="66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493" t="3795" r="26902" b="3119"/>
          <a:stretch/>
        </p:blipFill>
        <p:spPr>
          <a:xfrm>
            <a:off x="1219320" y="76320"/>
            <a:ext cx="6306840" cy="64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71680" y="76320"/>
            <a:ext cx="5767200" cy="6422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495680" y="6553080"/>
            <a:ext cx="35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ucl. Acids Res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354-D3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rcRect l="0" t="4422" r="1042" b="0"/>
          <a:stretch/>
        </p:blipFill>
        <p:spPr>
          <a:xfrm>
            <a:off x="228600" y="-152280"/>
            <a:ext cx="876312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9000" y="15228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487656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lantgdb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plantgdb.org/AtGDB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hu, Schlueter &amp; Brendel (2003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lant Physiolo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469-48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lueter, Dong &amp; Brendel (2003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cl. Acids Re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354-D3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3886200"/>
            <a:ext cx="4343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4800600"/>
            <a:ext cx="266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ker Bren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nfeng D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thew Wilk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ome Anno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utational gene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b initi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pproaches (Markov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liced al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trained gene 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128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neSeq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79560" y="192420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68560" y="261000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68560" y="272412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68560" y="283860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68560" y="2952720"/>
            <a:ext cx="1015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68560" y="306720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68560" y="318132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68560" y="329580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68560" y="340992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68560" y="3524400"/>
            <a:ext cx="1015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8560" y="363852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8560" y="3753000"/>
            <a:ext cx="1015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175248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omic Seq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4251240"/>
            <a:ext cx="3200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 or protei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uffix Array/ Suffix Tre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438280"/>
            <a:ext cx="3200400" cy="354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37160" y="1924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42080" y="1924200"/>
            <a:ext cx="20304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1924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45120" y="1924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50040" y="1924200"/>
            <a:ext cx="20304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192420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8360" y="2152800"/>
            <a:ext cx="914400" cy="1428480"/>
          </a:xfrm>
          <a:custGeom>
            <a:avLst/>
            <a:gdLst>
              <a:gd name="textAreaLeft" fmla="*/ 122400 w 914400"/>
              <a:gd name="textAreaRight" fmla="*/ 792000 w 914400"/>
              <a:gd name="textAreaTop" fmla="*/ 249840 h 1428480"/>
              <a:gd name="textAreaBottom" fmla="*/ 1035720 h 142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2495520"/>
            <a:ext cx="25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st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3352680"/>
            <a:ext cx="2034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5004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42080" y="335268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46640" y="3352680"/>
            <a:ext cx="2034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35640" y="3581280"/>
            <a:ext cx="1015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54960" y="3352680"/>
            <a:ext cx="203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3352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3753000"/>
            <a:ext cx="609840" cy="514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451560" y="3581280"/>
            <a:ext cx="254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liced Al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2438280"/>
            <a:ext cx="2235240" cy="514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50040" y="3638520"/>
            <a:ext cx="2260440" cy="7430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4552920"/>
            <a:ext cx="2034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46640" y="4552920"/>
            <a:ext cx="2034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4552920"/>
            <a:ext cx="304560" cy="114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42080" y="4552920"/>
            <a:ext cx="304560" cy="11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50040" y="4552920"/>
            <a:ext cx="304920" cy="114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37160" y="47815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0" y="1924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1924200"/>
            <a:ext cx="20304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01920" y="1924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92440" y="1924200"/>
            <a:ext cx="40644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1924200"/>
            <a:ext cx="711000" cy="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06840" y="1924200"/>
            <a:ext cx="1930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56480" y="4952880"/>
            <a:ext cx="1930320" cy="514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0" y="5010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em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889280" y="2124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330120"/>
            <a:ext cx="716256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on            44..160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gene="kin2"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number=1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DS             join(104..160,320..390,504..579)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gene="kin2"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codon_start=1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protein_id="CAA44171.1"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db_xref="GI:16354"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db_xref="SWISS-PROT:P31169"  I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translation=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MSETNKNAFQAGQAAGKAERRRAMFCWTRPRMLLLQLELPRNRA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KSISDAAVGGVNFVKDKTGLNK"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ron          161..319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gene="kin2"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number=1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on            320..390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gene="kin2"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number=2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ron          391..503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gene="kin2"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number=2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on            504..&gt;579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gene="kin2"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number=3</a:t>
            </a:r>
            <a:r>
              <a:rPr b="0" i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280" y="152280"/>
            <a:ext cx="57913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LOCUS       ATKIN2        880 bp    DNA             PLN       23-JUL-199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CDS             join(104..160,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32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.390,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504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.579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EST Accession 3450035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Exon  1     78    160 (  83 n);  cDNA      1     80 (  80 n); score: 0.86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Intron  1    161    321 ( 161 n);  Pd: 0.976 (s: 0.90), Pa: 0.972 (s: 1.0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Exon  2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322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390 (  69 n);  cDNA     81    149 (  69 n); score: 0.97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Intron  2    391    504 ( 114 n);  Pd: 0.999 (s: 0.96), Pa: 0.964 (s: 0.9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Exon  3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505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785 ( 281 n);  cDNA    150    429 ( 280 n); score: 0.99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Alignment (genomic DNA sequence = upper lines)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//////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TCAGGCCGC TGGCAAAGCT GAGGTACTCT TTCTCTCTTA GAACAGAGTA CTGATAGATT      19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|||||||||| |||| ||||| |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TCAGGCCGC TGGCCAAGCT GAG....... .......... .......... ..........       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//////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ATAGGAGAAG AGCAATGTTC TGCTGGACAA GGCCAAGGAT GCTGCTGCTG CAGCTGGAGC      37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|||||| |||||||||| |||||||||| |||||||||| |||||||||| |||||||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...GAGAAG AGCAATGTTC TGCTGGACAA GGCCAAGGAT GCTGCTGCTG CAGCTGGAGN      13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TTCCGCGCAA CAGGTAAACG ATCTATACAC ACATTATGAC ATTTATGTAA AGAATGAAAA      43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|||||| ||| |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TTCCGCNCAA CAG....... .......... .......... .......... ..........      14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//////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TTATAGGCG GGAAAGAGTA TATCGGATGC GGCAGTGGGA GGTGTTAACT TCGTGAAGGA      55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||| |||||||||| |||||||||| |||||||||| |||||||||  |||||||||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......GCG GGAAAGAGTA TATCGGATGC GGCAGTGGGA GGTGTTAAC- TCGTGAAGGA      20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//////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Pcorrect (gi|399298|sp|P31169|KIN2_ARATH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SETNKNAFQ AGQAAGKAE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E KSNVLLDKAK DAAAAAGASA QQ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AGKSISDA AVGGVNFVKD KTGLN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Pfalse (gi|16354|emb|CAA44171.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SETNKNAFQ AGQAAGKAE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R RRAMFCWTRP RMLLLQLELP RNR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AGKSISD AAVGGVNFVK DKTGLN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1143000"/>
            <a:ext cx="2362320" cy="36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of an erroneous GenBank annotation.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Bank CDS gives incorrect assignment of both acceptor sites (319 should be 321, 503 should be 504), as pointed out by Korning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 al. (1996)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pliced alignment with an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abidopsis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by the GeneSeqer program [Usuka &amp; Brendel, 2000] proves the correct assignment (identities between the genomic DNA, upper lines, and EST, lower lines, are indicated by |; positions of the rightmost residues in each sequence block are given on the right; introns are indicated by …; for brevity, some sequence segments are replaced by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//////)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The erroneous intron assignment led to an incorrect protein sequence prediction (Pfalse).  Both the incorrect sequence and the correct protein sequence (Pcorrect) persist in the NCBI non-redundant protein database under different accessions.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71680" y="15876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CUS   ATKIN2 880 bp  DNA PLN 23-JUL-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DS     join(104..160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2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390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0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57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2003400"/>
            <a:ext cx="83822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Pfalse (gi|16354|emb|CAA44171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SETNKNAFQ AGQAAGKA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 RRAMFCWTRP RMLLLQLELP RN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GKSISD AAVGGVNFVK DKTGL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42240" y="1324080"/>
            <a:ext cx="6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4880" y="3533760"/>
            <a:ext cx="41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RRECT ANNO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5160" y="419112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DS     join(104..160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2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390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0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57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42240" y="4830840"/>
            <a:ext cx="6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51196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Pcorrect (gi|399298|sp|P31169|KIN2_ARA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SETNKNAFQ AGQAAGKA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 KSNVLLDKAK DAAAAAGASA QQ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GKSISDA AVGGVNFVKD KTGL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0" r="0" b="55079"/>
          <a:stretch/>
        </p:blipFill>
        <p:spPr>
          <a:xfrm>
            <a:off x="2227320" y="249120"/>
            <a:ext cx="6535800" cy="6364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60520" y="685800"/>
            <a:ext cx="118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nno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6858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1219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9144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2384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2438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321156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329256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66294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19051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2819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48769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68580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1295280"/>
            <a:ext cx="0" cy="106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243828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3276720"/>
            <a:ext cx="0" cy="335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6240" y="167652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l-c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ig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3720" y="2590920"/>
            <a:ext cx="146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GR Consen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ig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6240" y="4648320"/>
            <a:ext cx="109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ig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nciples of the PlantGDB Annotation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isually acce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 both curators &amp; community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grate automated &amp; non-autom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ynamic &amp; Distrib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community “ owned &amp; operated ”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 Structure Annotation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 intergenic reg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annotated genes actually correspond to a single g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 intronic reg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annotated gene structure actually contains two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 negative gene predi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ing an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ally incorrect gene annotation, missing annotation of alternative transcr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11:35:17Z</dcterms:created>
  <dc:creator>Shannon </dc:creator>
  <dc:description/>
  <dc:language>en-US</dc:language>
  <cp:lastModifiedBy>Shannon </cp:lastModifiedBy>
  <dcterms:modified xsi:type="dcterms:W3CDTF">2004-04-26T17:18:36Z</dcterms:modified>
  <cp:revision>8</cp:revision>
  <dc:subject/>
  <dc:title>Slide 1</dc:title>
</cp:coreProperties>
</file>